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8.gif" ContentType="image/gif"/>
  <Override PartName="/ppt/media/image18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gif" ContentType="image/gif"/>
  <Override PartName="/ppt/media/image17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6DF2-5733-4117-8097-D90A9D1B5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C653-7874-4115-B768-F2695775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219A-B38C-42AB-81BD-72211F2A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D1B7-45F8-4EA6-A28E-20B7C7529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5C4D-6324-4D1C-8482-C1FABEA6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4BF4-CE8E-4C0B-B87F-E84C0894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0447-7D55-4280-A795-31D88B7A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7957-69AB-4EDE-9EF9-CCE1FB5A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9CC0-FCB4-4C9B-953A-797A125D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7135-1115-48BC-8420-5E2FD590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42DD-CE10-43C2-949B-00409F7C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1E9E-E758-48AE-A955-F9F2BEDD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DF4E-D723-4396-8942-530DF5B6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63F2-9753-406D-9B82-299D6133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F8AE-EEEE-41A8-AE93-D33004E1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E1B3-D179-4B8E-AD86-F60E39B2E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C59D-AAE9-4BE6-B5BB-B2B4CCBF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2311-724F-4CC1-97AE-A95F5BE0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4A05-6D95-4101-9857-36E15E7B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A22F-E5EE-4B4F-8953-37A0A454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D8BC-54F2-47D1-BA35-248CCAD6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9AA2-42F5-40A5-B2A9-D9818F07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5509-5193-4951-934E-A87E3217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FB89-1CA9-4990-BF9E-7F288F75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0000"/>
                  </a:gs>
                  <a:gs pos="100000">
                    <a:srgbClr val="86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790000"/>
                  </a:gs>
                  <a:gs pos="50000">
                    <a:srgbClr val="860000"/>
                  </a:gs>
                  <a:gs pos="100000">
                    <a:srgbClr val="79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137F-9E9B-49C4-AE24-F4D2DC2C2D2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0000"/>
                  </a:gs>
                  <a:gs pos="100000">
                    <a:srgbClr val="86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790000"/>
                  </a:gs>
                  <a:gs pos="50000">
                    <a:srgbClr val="860000"/>
                  </a:gs>
                  <a:gs pos="100000">
                    <a:srgbClr val="79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0915-3EC6-4F97-82B8-1E98BD61201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ro/imgres?imgurl=http://www.ici.ro/romania/images/turism/mc_rosu1.jpg&amp;imgrefurl=http://www.ici.ro/romania/ro/turism/c_est.html&amp;h=354&amp;w=513&amp;sz=110&amp;hl=ro&amp;start=7&amp;tbnid=FzIEspE0oVAi5M:&amp;tbnh=90&amp;tbnw=131&amp;prev=/images%3Fq%3Dcarpatii%2Borientali%26gbv%3D2%26ndsp%3D20%26hl%3Dro%26sa%3DX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images.google.ro/imgres?imgurl=http://www.forum2020.ro/Data/moieciu/pics/pcrai.jpg&amp;imgrefurl=http://www.forum2020.ro/Data/moieciu/moieciu_ro.htm&amp;h=285&amp;w=800&amp;sz=80&amp;hl=ro&amp;start=5&amp;tbnid=mXzfWiQ0BoRllM:&amp;tbnh=51&amp;tbnw=143&amp;prev=/images%3Fq%3Dcarpatii%2Borientali%26gbv%3D2%26ndsp%3D20%26hl%3Dro%26sa%3DX" TargetMode="External"/><Relationship Id="rId4" Type="http://schemas.openxmlformats.org/officeDocument/2006/relationships/image" Target="../media/image19.jpeg"/><Relationship Id="rId5" Type="http://schemas.openxmlformats.org/officeDocument/2006/relationships/hyperlink" Target="http://images.google.ro/imgres?imgurl=http://www.hoteluri.org/UserFiles/Image/muntii%2520ciucas1.jpg&amp;imgrefurl=http://www.hoteluri.org/taxonomy/term/96/0&amp;h=267&amp;w=400&amp;sz=13&amp;hl=ro&amp;start=92&amp;tbnid=5sUgqKt2kwP_GM:&amp;tbnh=83&amp;tbnw=124&amp;prev=/images%3Fq%3Dcarpatii%2Borientali%26start%3D80%26gbv%3D2%26ndsp%3D20%26hl%3Dro%26sa%3DN" TargetMode="External"/><Relationship Id="rId6" Type="http://schemas.openxmlformats.org/officeDocument/2006/relationships/image" Target="../media/image20.jpeg"/><Relationship Id="rId7" Type="http://schemas.openxmlformats.org/officeDocument/2006/relationships/hyperlink" Target="http://images.google.ro/imgres?imgurl=http://www.iloveromania.ro/pictures/60_text.jpg&amp;imgrefurl=http://www.iloveromania.ro/despre_38/vacante_la_munte&amp;h=199&amp;w=200&amp;sz=13&amp;hl=ro&amp;start=110&amp;tbnid=rWnktpOKmHZDIM:&amp;tbnh=103&amp;tbnw=104&amp;prev=/images%3Fq%3Dcarpatii%2Borientali%26start%3D100%26gbv%3D2%26ndsp%3D20%26hl%3Dro%26sa%3DN" TargetMode="External"/><Relationship Id="rId8" Type="http://schemas.openxmlformats.org/officeDocument/2006/relationships/image" Target="../media/image21.jpeg"/><Relationship Id="rId9" Type="http://schemas.openxmlformats.org/officeDocument/2006/relationships/hyperlink" Target="http://images.google.ro/imgres?imgurl=http://www.kukullo.ro/imagebank/csillagturak/gyilkosto/bekas6.jpg&amp;imgrefurl=http://www.kukullo.ro/index.php%3Fs%3D1101799514&amp;h=500&amp;w=333&amp;sz=43&amp;hl=ro&amp;start=214&amp;tbnid=C7GEDxH2lgMJSM:&amp;tbnh=130&amp;tbnw=87&amp;prev=/images%3Fq%3Dcarpatii%2Borientali%26start%3D200%26gbv%3D2%26ndsp%3D20%26hl%3Dro%26sa%3DN" TargetMode="External"/><Relationship Id="rId10" Type="http://schemas.openxmlformats.org/officeDocument/2006/relationships/image" Target="../media/image22.jpeg"/><Relationship Id="rId11" Type="http://schemas.openxmlformats.org/officeDocument/2006/relationships/hyperlink" Target="http://images.google.ro/imgres?imgurl=http://bucegi.trei.ro/CheileUrsilor-Pestera.jpg&amp;imgrefurl=http://bucegi.trei.ro/Zone.html&amp;h=416&amp;w=600&amp;sz=44&amp;hl=ro&amp;start=381&amp;tbnid=Q40fHQdizDOWwM:&amp;tbnh=94&amp;tbnw=135&amp;prev=/images%3Fq%3Dflora%2Bsi%2Bfauna%2Bdin%2Bcarpati%26start%3D380%26gbv%3D2%26ndsp%3D20%26hl%3Dro%26sa%3DN" TargetMode="External"/><Relationship Id="rId12" Type="http://schemas.openxmlformats.org/officeDocument/2006/relationships/image" Target="../media/image23.jpeg"/><Relationship Id="rId13" Type="http://schemas.openxmlformats.org/officeDocument/2006/relationships/hyperlink" Target="file:///tmp/home/.config/libreoffice/4/user/gallery/camera.wav" TargetMode="External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ci.ro/romania/images/turism/mc_bicaz2.jpg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google.ro/imgres?imgurl=http://www.korona.panzio.ro/uploaded/images/pic005.max.jpg&amp;imgrefurl=http://www.korona.panzio.ro/programs.php%3Flang%3Dro&amp;h=400&amp;w=300&amp;sz=61&amp;hl=ro&amp;start=26&amp;tbnid=rdE3InW8_mkQJM:&amp;tbnh=124&amp;tbnw=93&amp;prev=/images%3Fq%3Dcarpatii%2Borientali%26start%3D20%26gbv%3D2%26ndsp%3D20%26hl%3Dro%26sa%3DN" TargetMode="External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hyperlink" Target="file:///tmp/home/.config/libreoffice/4/user/gallery/camera.wav" TargetMode="Externa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hyperlink" Target="file:///tmp/home/.config/libreoffice/4/user/gallery/camera.wav" TargetMode="Externa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elcometoromania.ro/Fagaras/Fagaras_Cabana_Cumpana_Varful_Negoiu_e.htm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welcometoromania.ro/Fagaras/Fagaras_Moldoveanu_Slatina_e.htm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www.pensiunituristice.ro/index.php?sectiune=8&amp;id_reg=4&amp;id_judet=&amp;id_local=&amp;atractie=9" TargetMode="External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hyperlink" Target="file:///tmp/home/.config/libreoffice/4/user/gallery/camera.wav" TargetMode="External"/><Relationship Id="rId10" Type="http://schemas.openxmlformats.org/officeDocument/2006/relationships/hyperlink" Target="http://images.google.ro/imgres?imgurl=http://www.adevarul.ro/usr/imagini/2229-122714-fdhbodfno.jpg&amp;imgrefurl=http://www.adevarul.ro/articole/busteni-babele-pestera-un-traseu-pentru-iubitorii-de-natura/322976&amp;h=570&amp;w=774&amp;sz=457&amp;hl=ro&amp;start=332&amp;tbnid=05JnYeXL9A2kNM:&amp;tbnh=105&amp;tbnw=142&amp;prev=/images%3Fq%3D%2BRomania%2Bpeisaje%26start%3D320%26gbv%3D2%26ndsp%3D20%26hl%3Dro%26sa%3DN" TargetMode="External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652760" y="2925720"/>
            <a:ext cx="583848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ODOABELE PĂMÂNTULUI ROMÂNESC: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ORMELE DE RELIEF</a:t>
            </a:r>
            <a:endParaRPr b="0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6868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cc"/>
                </a:solidFill>
                <a:latin typeface="Tahoma"/>
              </a:rPr>
              <a:t>Carpaţii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Orientali</a:t>
            </a:r>
            <a:br>
              <a:rPr sz="3200"/>
            </a:b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Cel mai înalt vârf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o-RO" sz="4400" spc="-1" strike="noStrike">
                <a:solidFill>
                  <a:srgbClr val="ffffcc"/>
                </a:solidFill>
                <a:latin typeface="Tahoma"/>
              </a:rPr>
              <a:t> Pietrosul -2.303m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371600"/>
            <a:ext cx="2590560" cy="177948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1800" y="1676520"/>
            <a:ext cx="3352680" cy="119700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1371600"/>
            <a:ext cx="2514600" cy="168264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19920" y="3505320"/>
            <a:ext cx="2743200" cy="271620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114800" y="3657600"/>
            <a:ext cx="1684440" cy="251460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04920" y="3657600"/>
            <a:ext cx="3504960" cy="2440080"/>
          </a:xfrm>
          <a:prstGeom prst="rect">
            <a:avLst/>
          </a:prstGeom>
          <a:ln w="0">
            <a:noFill/>
          </a:ln>
        </p:spPr>
      </p:pic>
      <p:sp>
        <p:nvSpPr>
          <p:cNvPr id="442" name="">
            <a:hlinkClick r:id="" action="ppaction://hlinkshowjump?jump=nextslide"/>
            <a:hlinkClick r:id="rId13"/>
          </p:cNvPr>
          <p:cNvSpPr/>
          <p:nvPr/>
        </p:nvSpPr>
        <p:spPr>
          <a:xfrm>
            <a:off x="449568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2852640"/>
            <a:ext cx="3889080" cy="345276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933720"/>
            <a:ext cx="2000160" cy="266724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5"/>
          <a:stretch/>
        </p:blipFill>
        <p:spPr>
          <a:xfrm>
            <a:off x="6095880" y="41497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446" name="">
            <a:hlinkClick r:id="" action="ppaction://hlinkshowjump?jump=nextslide"/>
            <a:hlinkClick r:id="rId6"/>
          </p:cNvPr>
          <p:cNvSpPr/>
          <p:nvPr/>
        </p:nvSpPr>
        <p:spPr>
          <a:xfrm>
            <a:off x="3962520" y="55627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83840" y="515880"/>
            <a:ext cx="7247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Carpaţii Meridiona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Cele  mai înalte vârfuri:    </a:t>
            </a:r>
            <a:r>
              <a:rPr b="1" lang="ro-RO" sz="2800" spc="-1" strike="noStrike">
                <a:solidFill>
                  <a:srgbClr val="ff0066"/>
                </a:solidFill>
                <a:latin typeface="Tahoma"/>
              </a:rPr>
              <a:t>vf.Moldoveanu-2.544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792880" y="1412640"/>
            <a:ext cx="3557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66"/>
                </a:solidFill>
                <a:latin typeface="Tahoma"/>
              </a:rPr>
              <a:t>vf.Negoiu -2535m 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66"/>
                </a:solidFill>
                <a:latin typeface="Tahoma"/>
              </a:rPr>
              <a:t>vf.Omu-2.505m 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66"/>
                </a:solidFill>
                <a:latin typeface="Tahoma"/>
              </a:rPr>
              <a:t>vf. Retezat-2.482m</a:t>
            </a: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2808360" cy="222876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5867280" y="1773360"/>
            <a:ext cx="3046680" cy="211428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3"/>
          <a:stretch/>
        </p:blipFill>
        <p:spPr>
          <a:xfrm>
            <a:off x="3059280" y="4005360"/>
            <a:ext cx="2819160" cy="2114280"/>
          </a:xfrm>
          <a:prstGeom prst="rect">
            <a:avLst/>
          </a:prstGeom>
          <a:ln w="0">
            <a:noFill/>
          </a:ln>
        </p:spPr>
      </p:pic>
      <p:sp>
        <p:nvSpPr>
          <p:cNvPr id="454" name="">
            <a:hlinkClick r:id="" action="ppaction://hlinkshowjump?jump=nextslide"/>
            <a:hlinkClick r:id="rId4"/>
          </p:cNvPr>
          <p:cNvSpPr/>
          <p:nvPr/>
        </p:nvSpPr>
        <p:spPr>
          <a:xfrm>
            <a:off x="4419720" y="56386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403280" y="0"/>
            <a:ext cx="69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Carpaţii Occidenta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Cel mai înalt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 vârf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ri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:   vf. </a:t>
            </a:r>
            <a:r>
              <a:rPr b="1" lang="ro-RO" sz="3200" spc="-1" strike="noStrike">
                <a:solidFill>
                  <a:srgbClr val="ffff00"/>
                </a:solidFill>
                <a:latin typeface="Tahoma"/>
              </a:rPr>
              <a:t>Vlădeasa-1836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f.Bihor </a:t>
            </a:r>
            <a:r>
              <a:rPr b="1" lang="ro-RO" sz="32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1" lang="ro-RO" sz="3200" spc="-1" strike="noStrike">
                <a:solidFill>
                  <a:srgbClr val="ffff00"/>
                </a:solidFill>
                <a:latin typeface="Tahoma"/>
              </a:rPr>
              <a:t>8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49</a:t>
            </a:r>
            <a:r>
              <a:rPr b="1" lang="ro-RO" sz="3200" spc="-1" strike="noStrike">
                <a:solidFill>
                  <a:srgbClr val="ffff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846360" y="228600"/>
            <a:ext cx="271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cc66"/>
                </a:solidFill>
                <a:latin typeface="Tahoma"/>
              </a:rPr>
              <a:t>BOGĂŢII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3880" y="1523880"/>
            <a:ext cx="9080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200" spc="-1" strike="noStrike">
                <a:solidFill>
                  <a:srgbClr val="006666"/>
                </a:solidFill>
                <a:latin typeface="Tahoma"/>
              </a:rPr>
              <a:t>pădur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200" spc="-1" strike="noStrike">
                <a:solidFill>
                  <a:srgbClr val="009900"/>
                </a:solidFill>
                <a:latin typeface="Tahoma"/>
              </a:rPr>
              <a:t>păşun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200" spc="-1" strike="noStrike">
                <a:solidFill>
                  <a:srgbClr val="6699ff"/>
                </a:solidFill>
                <a:latin typeface="Tahoma"/>
              </a:rPr>
              <a:t>ap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99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1" lang="ro-RO" sz="3200" spc="-1" strike="noStrike">
                <a:solidFill>
                  <a:srgbClr val="6699ff"/>
                </a:solidFill>
                <a:latin typeface="Tahoma"/>
              </a:rPr>
              <a:t>ape mineral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99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1" lang="ro-RO" sz="3200" spc="-1" strike="noStrike">
                <a:solidFill>
                  <a:srgbClr val="6699ff"/>
                </a:solidFill>
                <a:latin typeface="Tahoma"/>
              </a:rPr>
              <a:t>ape termal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200" spc="-1" strike="noStrike">
                <a:solidFill>
                  <a:srgbClr val="996600"/>
                </a:solidFill>
                <a:latin typeface="Tahoma"/>
              </a:rPr>
              <a:t>piatră de construcţi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200" spc="-1" strike="noStrike">
                <a:solidFill>
                  <a:srgbClr val="cc6600"/>
                </a:solidFill>
                <a:latin typeface="Tahoma"/>
              </a:rPr>
              <a:t>minereuri </a:t>
            </a: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( roci din care se extrag metal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200" spc="-1" strike="noStrike">
                <a:solidFill>
                  <a:srgbClr val="ffffcc"/>
                </a:solidFill>
                <a:latin typeface="Tahoma"/>
              </a:rPr>
              <a:t>sar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o-RO" sz="3200" spc="-1" strike="noStrike">
                <a:solidFill>
                  <a:srgbClr val="ff9933"/>
                </a:solidFill>
                <a:latin typeface="Tahoma"/>
              </a:rPr>
              <a:t>cărbuni</a:t>
            </a:r>
            <a:r>
              <a:rPr b="1" lang="ro-RO" sz="3200" spc="-1" strike="noStrike">
                <a:solidFill>
                  <a:srgbClr val="ffffcc"/>
                </a:solidFill>
                <a:latin typeface="Tahoma"/>
              </a:rPr>
              <a:t> ( în depresiuni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5791320" y="5105520"/>
            <a:ext cx="64764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</a:t>
            </a:r>
            <a:r>
              <a:rPr b="0" lang="ro-RO" sz="4400" spc="-1" strike="noStrike">
                <a:solidFill>
                  <a:srgbClr val="ffffcc"/>
                </a:solidFill>
                <a:latin typeface="Tahoma"/>
              </a:rPr>
              <a:t>valua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Monotype Corsiva"/>
              </a:rPr>
              <a:t>Pe parcursul proiectului</a:t>
            </a:r>
            <a:r>
              <a:rPr b="0" lang="ro-RO" sz="4000" spc="-1" strike="noStrike">
                <a:solidFill>
                  <a:srgbClr val="ff9933"/>
                </a:solidFill>
                <a:latin typeface="Monotype Corsiva"/>
              </a:rPr>
              <a:t>, prin fişe de evalua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66"/>
                </a:solidFill>
                <a:latin typeface="Monotype Corsiva"/>
              </a:rPr>
              <a:t>Evaluare sumativă- proiecte şi portofoliile elevilo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4724280" y="1752480"/>
            <a:ext cx="3810240" cy="24386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5219640" y="189000"/>
            <a:ext cx="3048120" cy="12027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8100000"/>
          </a:gradFill>
          <a:ln cap="sq"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Este neted</a:t>
            </a:r>
            <a:r>
              <a:rPr b="0" lang="ro-RO" sz="1800" spc="-1" strike="noStrike">
                <a:solidFill>
                  <a:srgbClr val="8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si-ntins</a:t>
            </a:r>
            <a:r>
              <a:rPr b="0" lang="ro-RO" sz="1800" spc="-1" strike="noStrike">
                <a:solidFill>
                  <a:srgbClr val="8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Cu br</a:t>
            </a:r>
            <a:r>
              <a:rPr b="0" lang="ro-RO" sz="1800" spc="-1" strike="noStrike">
                <a:solidFill>
                  <a:srgbClr val="800000"/>
                </a:solidFill>
                <a:latin typeface="Arial"/>
              </a:rPr>
              <a:t>â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u de aur </a:t>
            </a:r>
            <a:r>
              <a:rPr b="0" lang="ro-RO" sz="1800" spc="-1" strike="noStrike">
                <a:solidFill>
                  <a:srgbClr val="8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cins</a:t>
            </a:r>
            <a:r>
              <a:rPr b="0" lang="ro-RO" sz="1800" spc="-1" strike="noStrike">
                <a:solidFill>
                  <a:srgbClr val="8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             ……………………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4724280" y="4191120"/>
            <a:ext cx="3810240" cy="243828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733920" cy="24382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photo"/>
          <p:cNvPicPr/>
          <p:nvPr/>
        </p:nvPicPr>
        <p:blipFill>
          <a:blip r:embed="rId4"/>
          <a:stretch/>
        </p:blipFill>
        <p:spPr>
          <a:xfrm>
            <a:off x="971640" y="1268280"/>
            <a:ext cx="360036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 rot="21098400">
            <a:off x="324000" y="1267920"/>
            <a:ext cx="4190760" cy="31244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 rot="360000">
            <a:off x="4642920" y="1267920"/>
            <a:ext cx="4191120" cy="31244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3"/>
          <a:stretch/>
        </p:blipFill>
        <p:spPr>
          <a:xfrm>
            <a:off x="1371600" y="5257800"/>
            <a:ext cx="944640" cy="1600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3200400" y="5181480"/>
            <a:ext cx="2743200" cy="17398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13500000"/>
          </a:gradFill>
          <a:ln cap="sq"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800000"/>
                </a:solidFill>
                <a:latin typeface="Arial"/>
              </a:rPr>
              <a:t>Cu -nălţime mijlocie, Între munte şi câmpie, Presărat cu pomi şi vie, Oare ce să fie ?      .........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Negoiu pea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581280"/>
            <a:ext cx="2246400" cy="29718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View from Moldoveanu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48520" y="3733920"/>
            <a:ext cx="2895480" cy="269712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228600"/>
            <a:ext cx="2206800" cy="26668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Priveliste Iarna"/>
          <p:cNvPicPr/>
          <p:nvPr/>
        </p:nvPicPr>
        <p:blipFill>
          <a:blip r:embed="rId7"/>
          <a:stretch/>
        </p:blipFill>
        <p:spPr>
          <a:xfrm>
            <a:off x="2195640" y="2060640"/>
            <a:ext cx="4038480" cy="29970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Priveliste Primavara"/>
          <p:cNvPicPr/>
          <p:nvPr/>
        </p:nvPicPr>
        <p:blipFill>
          <a:blip r:embed="rId8"/>
          <a:stretch/>
        </p:blipFill>
        <p:spPr>
          <a:xfrm>
            <a:off x="2209680" y="3733920"/>
            <a:ext cx="4038840" cy="2692440"/>
          </a:xfrm>
          <a:prstGeom prst="rect">
            <a:avLst/>
          </a:prstGeom>
          <a:ln w="0">
            <a:noFill/>
          </a:ln>
        </p:spPr>
      </p:pic>
      <p:sp>
        <p:nvSpPr>
          <p:cNvPr id="400" name="">
            <a:hlinkClick r:id="" action="ppaction://hlinkshowjump?jump=nextslide"/>
            <a:hlinkClick r:id="rId9"/>
          </p:cNvPr>
          <p:cNvSpPr/>
          <p:nvPr/>
        </p:nvSpPr>
        <p:spPr>
          <a:xfrm>
            <a:off x="419112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172200" y="228600"/>
            <a:ext cx="2971800" cy="247644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2268360" y="260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alt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crest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 to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colindat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arna se albe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a se-nverze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şte.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119124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Din această oră vom începe o călătorie prin  ţara noastră, să descoperim “</a:t>
            </a:r>
            <a:r>
              <a:rPr b="1" lang="ro-RO" sz="3200" spc="-1" strike="noStrike">
                <a:solidFill>
                  <a:srgbClr val="ff6600"/>
                </a:solidFill>
                <a:latin typeface="Tahoma"/>
              </a:rPr>
              <a:t>Formele de relief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Vom călători împreună prin munţi,pe dealuri şi câmpii, vom vedea unde se află ele pe hartă, ce bogăţii ne oferă şi de ce sunt importante pentru no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605800" cy="62391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RELIEFUL ESTE INF</a:t>
            </a:r>
            <a:r>
              <a:rPr b="0" lang="ro-RO" sz="3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ĂŢ</a:t>
            </a:r>
            <a:r>
              <a:rPr b="0" lang="en-US" sz="3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I</a:t>
            </a:r>
            <a:r>
              <a:rPr b="0" lang="ro-RO" sz="3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Ş</a:t>
            </a:r>
            <a:r>
              <a:rPr b="0" lang="en-US" sz="3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AREA SUPRAFE</a:t>
            </a:r>
            <a:r>
              <a:rPr b="0" lang="ro-RO" sz="3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Ţ</a:t>
            </a:r>
            <a:r>
              <a:rPr b="0" lang="en-US" sz="3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EI P</a:t>
            </a:r>
            <a:r>
              <a:rPr b="0" lang="ro-RO" sz="3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Ă</a:t>
            </a:r>
            <a:r>
              <a:rPr b="0" lang="en-US" sz="3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M</a:t>
            </a:r>
            <a:r>
              <a:rPr b="0" lang="ro-RO" sz="3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Â</a:t>
            </a:r>
            <a:r>
              <a:rPr b="0" lang="en-US" sz="3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NTULUI.</a:t>
            </a:r>
            <a:br>
              <a:rPr sz="3600"/>
            </a:br>
            <a:r>
              <a:rPr b="0" lang="en-US" sz="3600" spc="-1" strike="noStrike">
                <a:solidFill>
                  <a:srgbClr val="d99694"/>
                </a:solidFill>
                <a:latin typeface="Times New Roman"/>
                <a:ea typeface="Times New Roman"/>
              </a:rPr>
              <a:t>FORMELE DE RELIEF DE PE TERITORIUL </a:t>
            </a:r>
            <a:r>
              <a:rPr b="0" lang="ro-RO" sz="3600" spc="-1" strike="noStrike">
                <a:solidFill>
                  <a:srgbClr val="d99694"/>
                </a:solidFill>
                <a:latin typeface="Times New Roman"/>
                <a:ea typeface="Times New Roman"/>
              </a:rPr>
              <a:t>ŢĂ</a:t>
            </a:r>
            <a:r>
              <a:rPr b="0" lang="en-US" sz="3600" spc="-1" strike="noStrike">
                <a:solidFill>
                  <a:srgbClr val="d99694"/>
                </a:solidFill>
                <a:latin typeface="Times New Roman"/>
                <a:ea typeface="Times New Roman"/>
              </a:rPr>
              <a:t>RII NOASTRE SUNT ALC</a:t>
            </a:r>
            <a:r>
              <a:rPr b="0" lang="ro-RO" sz="3600" spc="-1" strike="noStrike">
                <a:solidFill>
                  <a:srgbClr val="d99694"/>
                </a:solidFill>
                <a:latin typeface="Times New Roman"/>
                <a:ea typeface="Times New Roman"/>
              </a:rPr>
              <a:t>Ă</a:t>
            </a:r>
            <a:r>
              <a:rPr b="0" lang="en-US" sz="3600" spc="-1" strike="noStrike">
                <a:solidFill>
                  <a:srgbClr val="d99694"/>
                </a:solidFill>
                <a:latin typeface="Times New Roman"/>
                <a:ea typeface="Times New Roman"/>
              </a:rPr>
              <a:t>TUITE DIN </a:t>
            </a:r>
            <a:r>
              <a:rPr b="0" lang="ro-RO" sz="3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.....</a:t>
            </a:r>
            <a:r>
              <a:rPr b="0" lang="en-US" sz="3600" spc="-1" strike="noStrike">
                <a:solidFill>
                  <a:srgbClr val="d99694"/>
                </a:solidFill>
                <a:latin typeface="Times New Roman"/>
                <a:ea typeface="Times New Roman"/>
              </a:rPr>
              <a:t>, </a:t>
            </a:r>
            <a:r>
              <a:rPr b="0" lang="ro-RO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..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d99694"/>
                </a:solidFill>
                <a:latin typeface="Times New Roman"/>
                <a:ea typeface="Times New Roman"/>
              </a:rPr>
              <a:t>SI </a:t>
            </a:r>
            <a:r>
              <a:rPr b="0" lang="ro-RO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..</a:t>
            </a:r>
            <a:r>
              <a:rPr b="0" lang="en-US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LE SUNT FORME MAJORE DEOARECE OCUP</a:t>
            </a:r>
            <a:r>
              <a:rPr b="0" lang="ro-RO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Ă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INTINDERI MARI SI DAU, IMPREUNA, CARACTERISTICILE GENERALE ALE RELIEFULUI. </a:t>
            </a:r>
            <a:br>
              <a:rPr sz="3600"/>
            </a:br>
            <a:r>
              <a:rPr b="0" lang="ro-RO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Relieful României este dispus în..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28400" y="213840"/>
            <a:ext cx="8258040" cy="6286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"/>
              </a:rPr>
              <a:t>CARACTERISTICILE RELIEFULUI ROMANIE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comic"/>
              </a:rPr>
              <a:t>Variat</a:t>
            </a:r>
            <a:r>
              <a:rPr b="0" lang="en-US" sz="2400" spc="-1" strike="noStrike">
                <a:solidFill>
                  <a:srgbClr val="ff0000"/>
                </a:solidFill>
                <a:latin typeface="comic"/>
              </a:rPr>
              <a:t>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prinde o diversitate de forme de relief – munti,                 dealuri si podisuri, c</a:t>
            </a:r>
            <a:r>
              <a:rPr b="0" lang="ro-RO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pii, lunci </a:t>
            </a:r>
            <a:r>
              <a:rPr b="0" lang="ro-RO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ş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 delta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859c"/>
                </a:solidFill>
                <a:latin typeface="comic"/>
              </a:rPr>
              <a:t>Ordonat</a:t>
            </a:r>
            <a:r>
              <a:rPr b="0" lang="en-US" sz="2400" spc="-1" strike="noStrike">
                <a:solidFill>
                  <a:srgbClr val="ff0000"/>
                </a:solidFill>
                <a:latin typeface="comic"/>
              </a:rPr>
              <a:t>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mele de relief sunt repartizate armonios, in trepte, de la mijloc spre margini</a:t>
            </a:r>
            <a:r>
              <a:rPr b="0" lang="en-US" sz="2400" spc="-1" strike="noStrike">
                <a:solidFill>
                  <a:srgbClr val="ff0000"/>
                </a:solidFill>
                <a:latin typeface="comic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933c"/>
                </a:solidFill>
                <a:latin typeface="comic"/>
              </a:rPr>
              <a:t>Mediu ca inaltime</a:t>
            </a:r>
            <a:r>
              <a:rPr b="0" lang="en-US" sz="2400" spc="-1" strike="noStrike">
                <a:solidFill>
                  <a:srgbClr val="ff0000"/>
                </a:solidFill>
                <a:latin typeface="comic"/>
              </a:rPr>
              <a:t>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mpiile ajung de la 0 la 200 m; dealurile si podisurile – de la 200 la 800 m; muntii – de la    8oo m pana la 25oo m (cea mai mare inaltime este de 2544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5968"/>
                </a:solidFill>
                <a:latin typeface="comic"/>
              </a:rPr>
              <a:t>Dispus aproape egal</a:t>
            </a:r>
            <a:r>
              <a:rPr b="0" lang="en-US" sz="2400" spc="-1" strike="noStrike">
                <a:solidFill>
                  <a:srgbClr val="ff0000"/>
                </a:solidFill>
                <a:latin typeface="comic"/>
              </a:rPr>
              <a:t>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ecare dintre cele trei forme de relief ocup</a:t>
            </a:r>
            <a:r>
              <a:rPr b="0" lang="ro-RO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ă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irc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 treim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din suprafa</a:t>
            </a:r>
            <a:r>
              <a:rPr b="0" lang="ro-RO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total</a:t>
            </a:r>
            <a:r>
              <a:rPr b="0" lang="ro-RO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ă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 t</a:t>
            </a:r>
            <a:r>
              <a:rPr b="0" lang="ro-RO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ă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i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40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8" name=""/>
            <p:cNvGrpSpPr/>
            <p:nvPr/>
          </p:nvGrpSpPr>
          <p:grpSpPr>
            <a:xfrm>
              <a:off x="0" y="0"/>
              <a:ext cx="8534520" cy="6859440"/>
              <a:chOff x="0" y="0"/>
              <a:chExt cx="8534520" cy="6859440"/>
            </a:xfrm>
          </p:grpSpPr>
          <p:sp>
            <p:nvSpPr>
              <p:cNvPr id="409" name=""/>
              <p:cNvSpPr/>
              <p:nvPr/>
            </p:nvSpPr>
            <p:spPr>
              <a:xfrm>
                <a:off x="4038480" y="0"/>
                <a:ext cx="38124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038480" y="6491160"/>
                <a:ext cx="60984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077320" y="2514600"/>
                <a:ext cx="45720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0" y="2590920"/>
                <a:ext cx="53352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647640" cy="9241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 rot="17934000">
            <a:off x="279720" y="24667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800000"/>
                </a:solidFill>
                <a:latin typeface="Arial"/>
              </a:rPr>
              <a:t>Câmpia de V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7984400">
            <a:off x="966960" y="1780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800000"/>
                </a:solidFill>
                <a:latin typeface="Arial"/>
              </a:rPr>
              <a:t>Dealurile de </a:t>
            </a:r>
            <a:r>
              <a:rPr b="1" lang="ro-RO" sz="1600" spc="-1" strike="noStrike">
                <a:solidFill>
                  <a:srgbClr val="800000"/>
                </a:solidFill>
                <a:latin typeface="Arial"/>
              </a:rPr>
              <a:t>V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00400" y="2438280"/>
            <a:ext cx="1447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800000"/>
                </a:solidFill>
                <a:latin typeface="Arial"/>
              </a:rPr>
              <a:t>Depresiunea</a:t>
            </a:r>
            <a:r>
              <a:rPr b="1" lang="ro-RO" sz="1400" spc="-1" strike="noStrike">
                <a:solidFill>
                  <a:srgbClr val="800000"/>
                </a:solidFill>
                <a:latin typeface="Arial"/>
              </a:rPr>
              <a:t> Transivanie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20212200">
            <a:off x="4453200" y="5090760"/>
            <a:ext cx="25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800000"/>
                </a:solidFill>
                <a:latin typeface="Arial"/>
              </a:rPr>
              <a:t>C â m p i a  R o m â n ă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3207000">
            <a:off x="5387400" y="10890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800000"/>
                </a:solidFill>
                <a:latin typeface="Arial"/>
              </a:rPr>
              <a:t>Podişul  Moldov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20840400">
            <a:off x="2438280" y="48769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800000"/>
                </a:solidFill>
                <a:latin typeface="Arial"/>
              </a:rPr>
              <a:t>Podişul Get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006000">
            <a:off x="6778800" y="513216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800000"/>
                </a:solidFill>
                <a:latin typeface="Arial"/>
              </a:rPr>
              <a:t>Podişul Dobrog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229600" y="419112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800000"/>
                </a:solidFill>
                <a:latin typeface="Arial"/>
              </a:rPr>
              <a:t>Delta Dunări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153280" y="55627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800000"/>
                </a:solidFill>
                <a:latin typeface="Arial"/>
              </a:rPr>
              <a:t>Marea Neagr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 rot="3418800">
            <a:off x="3590640" y="1743120"/>
            <a:ext cx="2500200" cy="385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arpaţii Orientali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048120" y="4038480"/>
            <a:ext cx="259056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arpaţii Meridionali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 rot="17808000">
            <a:off x="1611360" y="2579400"/>
            <a:ext cx="1838160" cy="3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arpaţii Occidentali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 rot="15795600">
            <a:off x="4012920" y="2408040"/>
            <a:ext cx="2819520" cy="187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1268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  u  b  c  a  r  p  a  t  i  i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962520" y="4572000"/>
            <a:ext cx="1600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ubcarpatii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8600" y="0"/>
            <a:ext cx="2057400" cy="1143000"/>
          </a:xfrm>
          <a:prstGeom prst="wedgeEllipseCallout">
            <a:avLst>
              <a:gd name="adj1" fmla="val -39662"/>
              <a:gd name="adj2" fmla="val 86250"/>
            </a:avLst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8100000"/>
          </a:gra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800000"/>
                </a:solidFill>
                <a:latin typeface="Arial"/>
              </a:rPr>
              <a:t>Să identificăm  împreună unităţile majore de relief 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74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307080" y="990720"/>
            <a:ext cx="520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it-IT" sz="4000" spc="-1" strike="noStrike">
                <a:solidFill>
                  <a:srgbClr val="ffff00"/>
                </a:solidFill>
                <a:latin typeface="Arial"/>
              </a:rPr>
              <a:t>e împa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it-IT" sz="4000" spc="-1" strike="noStrike">
                <a:solidFill>
                  <a:srgbClr val="ffff00"/>
                </a:solidFill>
                <a:latin typeface="Arial"/>
              </a:rPr>
              <a:t>în trei mari 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grupe:</a:t>
            </a:r>
            <a:r>
              <a:rPr b="1" lang="it-IT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29320" y="251460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6600"/>
                </a:solidFill>
                <a:latin typeface="Arial"/>
              </a:rPr>
              <a:t>Carpaţii Orientali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369600" y="3809880"/>
            <a:ext cx="577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ffcc66"/>
                </a:solidFill>
                <a:latin typeface="Arial"/>
              </a:rPr>
              <a:t>Carpaţii Meridionali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39520" y="5029200"/>
            <a:ext cx="56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Carpaţii Occidentali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235240" y="304920"/>
            <a:ext cx="444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cc00"/>
                </a:solidFill>
                <a:latin typeface="Arial Black"/>
              </a:rPr>
              <a:t>MUNŢII CARPAŢ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8:32:39Z</dcterms:created>
  <dc:creator>mirela</dc:creator>
  <dc:description/>
  <dc:language>en-US</dc:language>
  <cp:lastModifiedBy>a</cp:lastModifiedBy>
  <dcterms:modified xsi:type="dcterms:W3CDTF">2009-12-13T18:27:34Z</dcterms:modified>
  <cp:revision>38</cp:revision>
  <dc:subject/>
  <dc:title>Slide 1</dc:title>
</cp:coreProperties>
</file>